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2B6D-FDCE-4213-A461-27566644E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044E-863B-4AA7-99F1-B6EACB49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6A58-CFB5-40FE-9889-62ACDC552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3E80-4B3D-475E-A974-ECC156F3C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6620-0A1C-4C4B-BE88-57FA39C4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92FC-3B4D-4CCE-9E46-0B96F86E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559A-DF96-4089-9F11-9C052D2C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FD9D-0F2B-47A2-98E8-19FA128F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AEF2-B477-4CA4-8AC1-96D0D8A5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3967-A273-41AB-B94B-DD5D1925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2544-1D6A-4BD3-A68B-A57294F2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8AC4-4D71-48F7-A452-593AC7AC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A638-A1A8-4484-8ACD-ACB13BB2EF3B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198900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333399"/>
                </a:solidFill>
                <a:latin typeface="Arial"/>
              </a:rPr>
              <a:t>Kako poticati profesionalni razvoj učenika u osnovnoj ško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560" y="4292280"/>
            <a:ext cx="7232760" cy="18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1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of. dr.sc. Vlasta Vizek Vidov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vvizek@idi.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Zagreb, 5. i 6. travanj 201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808200" y="568440"/>
            <a:ext cx="833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Agencija za mobilnost i projekte Europske un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Seminar: </a:t>
            </a:r>
            <a:r>
              <a:rPr b="1" lang="hr-HR" sz="2000" spc="-1" strike="noStrike">
                <a:solidFill>
                  <a:srgbClr val="333399"/>
                </a:solidFill>
                <a:latin typeface="Arial"/>
              </a:rPr>
              <a:t>Podrška škole profesionalnom razvoju uče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684360" y="6021360"/>
            <a:ext cx="77752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333399"/>
                </a:solidFill>
                <a:latin typeface="Arial"/>
              </a:rPr>
              <a:t>4 b. Pristupi i aktivnosti u nastavi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uradničko učenje  o zanimanj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ndividualno i grupno istraživanje svijeta 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naliza slučajeva (biografij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azredna rasprava o područjima interes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Vođeno čitanje ili gledanje s predviđanjem (što će se dogoditi ako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lobodno pisanje (da sam ja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333399"/>
                </a:solidFill>
                <a:latin typeface="Arial"/>
              </a:rPr>
              <a:t>4 c. Pristupi i aktivnosti izvan učionice/nast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nformiranje upućivanjem na različite izv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imjena standardnih postupaka utvrđivanja učenikovih interesa i sposob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ofesionalno savjetovanje – grupno i individual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drška roditeljima u poticanju profesionalnog razvo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Arial"/>
              </a:rPr>
              <a:t>5. Organizacijski i vremenski okv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4358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Redovna nastav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-  kontinuirano integrirati teme vezane uz profesionalni razvoj  od 5. razr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Satovi radne zajednic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-  uključivati teme vezane uz profesionalni razvoj od 5. razr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Redovni (mjesečni) blok satovi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profesionalnog usmjeravanja u 7. razredu (težište na upoznavanju sebe) i 8. razredu (težište na upoznavanju svijeta r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Izvannastavne aktivnosti: dopunska i dodatna nastav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– usmjerena na poticanje specifičnih interesa i/ili razvoj transverzalnih kompetenci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Posebni događaji za učenike (i roditelje):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posjeti institucijama i razgovor o zanimanjima, festival zanimanja izložbe o slavnim ljudima u gradu/regi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419040"/>
            <a:ext cx="93250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600" spc="-1" strike="noStrike">
                <a:solidFill>
                  <a:srgbClr val="262673"/>
                </a:solidFill>
                <a:latin typeface="Arial"/>
              </a:rPr>
              <a:t>Primjer dobre prakse: Finska</a:t>
            </a:r>
            <a:br>
              <a:rPr sz="3600"/>
            </a:br>
            <a:r>
              <a:rPr b="0" lang="hr-HR" sz="3200" spc="-1" strike="noStrike">
                <a:solidFill>
                  <a:srgbClr val="262673"/>
                </a:solidFill>
                <a:latin typeface="Arial"/>
              </a:rPr>
              <a:t>Obilježja škole usmjerene na profesionalni raz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99960" y="1341360"/>
            <a:ext cx="8524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brazovne ustanove trebaju imati strateški i operativni plan za provedbu profesionalnog usmjeravanj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ogram se temelji na holističkom pristupu djet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ovedba programa odgovornost je  svih školskih djelatnika: školski djelatnici međusobno surađuju u pružanju podrške učenic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oditelji i skrbnici uključuje se u razmatranje učenikovih postignuća i profesionalnih plan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z pružanje podrške svim učenicima u osobnom rastu i razvoju, posebna se pažnja posvećuje savjetovanju učenika s teškoćama u učenju i učenika u riziku od prijevremenog napuštanja šk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ovedba programa se redovito evalui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262673"/>
                </a:solidFill>
                <a:latin typeface="Arial"/>
              </a:rPr>
              <a:t>Hrvatski primjer dobre prak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125360"/>
            <a:ext cx="8694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262673"/>
                </a:solidFill>
                <a:latin typeface="Arial"/>
              </a:rPr>
              <a:t>Projekt „Moj pametni izbor” (ES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artneri na projektu su Hrvatski zavod za zapošljavanje PU Virovitica, Osnovna škola  „Mladost“, Jakšić iz Požeško-slavonske i Osnovna škola „Ivan Goran Kovačić“, Gornje Bazje iz Virovitičko-podravske županij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73"/>
                </a:solidFill>
                <a:latin typeface="Arial"/>
              </a:rPr>
              <a:t>Opći cilj projekta: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uspostava pilot centara za profesionalni razvoj u dvije osnovne škole koji će omogućiti mladim osobama da izbor srednje škole temelje na planu profesionalnog razvo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73"/>
                </a:solidFill>
                <a:latin typeface="Arial"/>
              </a:rPr>
              <a:t>Specifičan cilj:  Integracija sadržaja profesionalnog usmjeravanja u osnovnoškolski kurikulum kao međupredmetna tema</a:t>
            </a:r>
            <a:r>
              <a:rPr b="1" lang="hr-HR" sz="2400" spc="-1" strike="noStrike">
                <a:solidFill>
                  <a:srgbClr val="26267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ovi kurikulum - međupredmetna tema </a:t>
            </a:r>
            <a:r>
              <a:rPr b="0" lang="hr-HR" sz="3200" spc="-1" strike="noStrike">
                <a:solidFill>
                  <a:srgbClr val="262673"/>
                </a:solidFill>
                <a:latin typeface="Arial"/>
              </a:rPr>
              <a:t>Osobni i socijalni raz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50560" y="1139400"/>
            <a:ext cx="878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49120" indent="-2491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Cilj 4.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dgovorno ponašanje prema sebi i drugima u zajednici, donošenje odluka te planiranje obrazovanja, cjeloživotnog učenja i profesionalnog razvoja u suvremenom društvu i svijetu 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Domen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JA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upravljanje obrazovnim i profesionalnim pu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Provedba: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kurikulum svih predmeta (1.,2. 3. ciklus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- međupredmetne teme: Uporaba IKT i Poduzetništv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- satovi razrednika (3. cikl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601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d2d8a"/>
                </a:solidFill>
                <a:latin typeface="Arial"/>
              </a:rPr>
              <a:t>Učitelj: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odel profesionalnog ponaš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Stručni suradnic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: savjetuju učenike, roditelje, učitel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Učenici: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vode plan profesionalnog razvoja (3. cikl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Arial"/>
              </a:rPr>
              <a:t>Hvala na pozornosti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ANd9GcRoggY8ukUJE1cXK7Y8Okiil9nNwMYo1inhXH5DyCh_OYtlEu_X"/>
          <p:cNvPicPr/>
          <p:nvPr/>
        </p:nvPicPr>
        <p:blipFill>
          <a:blip r:embed="rId1"/>
          <a:stretch/>
        </p:blipFill>
        <p:spPr>
          <a:xfrm>
            <a:off x="971640" y="1628640"/>
            <a:ext cx="720072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333399"/>
                </a:solidFill>
                <a:latin typeface="Arial"/>
              </a:rPr>
              <a:t>Obrazovanje za profesionalni razvo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ZAŠTO?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   Svrha obrazovanja za profesionalni razvoj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ŠTO?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        Dimenzije profesionalnog obrazo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TKO?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         Ljudski resur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KAKO?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      Pristupi i aktiv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KADA?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      Organizacijski i vremenski okv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Arial"/>
              </a:rPr>
              <a:t>1. Svrha obrazovanja za profesionalni razvoj u osnovnoj ško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8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azvijati učenikove  mogućnosti  za  donoše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valitetnih životnih odluka vezanih uz izbor obrazovanja i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animan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Očekivani učinc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Neposredn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: promjena uvjerenja i znanja o sebi i svijetu 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Srednjoročni: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promjena ponašanja  (primjena efikasnijih strategija učenja, vještina učenja, bolje postignuće, poboljšanje  radnih navi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Dugoročni: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donošenje zrelih (realističnih) odluka o izboru zanimanja, karijerni uspjeh i zadovoljst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388800"/>
            <a:ext cx="73454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262673"/>
                </a:solidFill>
                <a:latin typeface="Arial"/>
              </a:rPr>
              <a:t>Hrvatski kvalifikacijski okvir – osnovni pojmov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25520" y="198864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idraulicNorm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HidraulicNormal"/>
              </a:rPr>
              <a:t>Kompetencije </a:t>
            </a:r>
            <a:r>
              <a:rPr b="1" lang="hr-HR" sz="2800" spc="-1" strike="noStrike">
                <a:solidFill>
                  <a:srgbClr val="000000"/>
                </a:solidFill>
                <a:latin typeface="HidraulicNormalIta"/>
              </a:rPr>
              <a:t>(</a:t>
            </a:r>
            <a:r>
              <a:rPr b="0" lang="hr-HR" sz="2800" spc="-1" strike="noStrike">
                <a:solidFill>
                  <a:srgbClr val="000000"/>
                </a:solidFill>
                <a:latin typeface="HidraulicNormalIta"/>
              </a:rPr>
              <a:t>engl. Competences) </a:t>
            </a:r>
            <a:r>
              <a:rPr b="0" lang="hr-HR" sz="2800" spc="-1" strike="noStrike">
                <a:solidFill>
                  <a:srgbClr val="000000"/>
                </a:solidFill>
                <a:latin typeface="HidraulicNormal"/>
              </a:rPr>
              <a:t>su znanja i vještine te pripadajuća samostalnost i odgovorn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idraulicNorm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HidraulicNormal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HidraulicNormal"/>
              </a:rPr>
              <a:t>Ishodi učenja </a:t>
            </a:r>
            <a:r>
              <a:rPr b="0" lang="hr-HR" sz="2800" spc="-1" strike="noStrike">
                <a:solidFill>
                  <a:srgbClr val="000000"/>
                </a:solidFill>
                <a:latin typeface="HidraulicNormalIta"/>
              </a:rPr>
              <a:t>(engl. Learning Outcomes) </a:t>
            </a:r>
            <a:r>
              <a:rPr b="0" lang="hr-HR" sz="2800" spc="-1" strike="noStrike">
                <a:solidFill>
                  <a:srgbClr val="000000"/>
                </a:solidFill>
                <a:latin typeface="HidraulicNormal"/>
              </a:rPr>
              <a:t>su kompetencije koje je osoba stekla </a:t>
            </a:r>
            <a:r>
              <a:rPr b="0" lang="pl-PL" sz="2800" spc="-1" strike="noStrike">
                <a:solidFill>
                  <a:srgbClr val="000000"/>
                </a:solidFill>
                <a:latin typeface="HidraulicNormal"/>
              </a:rPr>
              <a:t>učenjem i dokazala nakon postupka učen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idraulicNorm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idraulicNorm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7380360" y="274680"/>
            <a:ext cx="1593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Arial"/>
              </a:rPr>
              <a:t>2. Kompetencije za profesionalni razvoj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08000" y="1197000"/>
          <a:ext cx="8856720" cy="5307120"/>
        </p:xfrm>
        <a:graphic>
          <a:graphicData uri="http://schemas.openxmlformats.org/drawingml/2006/table">
            <a:tbl>
              <a:tblPr/>
              <a:tblGrid>
                <a:gridCol w="3852720"/>
                <a:gridCol w="5004000"/>
              </a:tblGrid>
              <a:tr h="782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menz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ANJE I  RAZUMIJEV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hod uče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čenik će moć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17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Znanje o sebi s orijentacijom na budućn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oznati svoje  interese, osobna obilježja  i jake strane te ih ugraditi u pozitivna razmišljanja o sebi u budućnost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63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Poznavanje svijeta 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isati različita zanimanja i  kompetencije potrebne za obavljanje pojedinih poslo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Mogućnost povezivanja vlastitih osobina s osobinama pojedinih zanimanja/poslo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oznati  područja djelatnosti u kojima će mogućnost korištenja vlastitih „jakih strana” pridonijeti profesionalnom uspjeh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Razumijevanje društvene vrijednosti rada i važnosti rada u životu pojedin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asniti kako pojedina zanimanja doprinose kvaliteti života u društvu  te prepoznati odnos između radnih i ostalih životnih ulo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Razumijevanje povezanosti razvoja karijere i cjeloživotnog profesionalnog učenja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asniti povezanost  obrazovnih putova i profesionalnih ciljeva  te važnost cjeloživotnog učenja za profesionalni razv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280" y="12240"/>
            <a:ext cx="8604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Arial"/>
              </a:rPr>
              <a:t>Kompetencije za profesionalni razvoj </a:t>
            </a: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(nast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35080" y="635040"/>
          <a:ext cx="8732880" cy="5262480"/>
        </p:xfrm>
        <a:graphic>
          <a:graphicData uri="http://schemas.openxmlformats.org/drawingml/2006/table">
            <a:tbl>
              <a:tblPr/>
              <a:tblGrid>
                <a:gridCol w="4124160"/>
                <a:gridCol w="4608720"/>
              </a:tblGrid>
              <a:tr h="744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menz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JEŠT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hodi uče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čenik će moć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Vještine istraživanja, planiranja i donošenja odlu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ijeniti  vještine istraživanja, planiranja ciljeva i načina provedbe te odlučivanja u situacijama obrazovnog izbo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97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Vještine upravljanja vlastitim učenj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ijeniti i prilagoditi  vještine učenja u svrhu unapređivanja isho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63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Vještine prilagodbe na nove životne ulo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oznati  razlike između osnovne  i srednje škole i pripremiti se za prijelaz u novu sredinu i novu ulog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71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renosive vještine za cjeloživotni profesionalni razv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kazati organizacijske, komunikacijske i socijalne vještine važne za obavljanje različitih zadataka/poslo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71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Vještine traženja socijalne podrške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kazati  inicijativu za  traženje  savjetodavne podrške u situacijama koje ne može samostalno riješi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56" name="TextBox 2"/>
          <p:cNvSpPr/>
          <p:nvPr/>
        </p:nvSpPr>
        <p:spPr>
          <a:xfrm>
            <a:off x="235080" y="5805360"/>
            <a:ext cx="873288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262673"/>
                </a:solidFill>
                <a:latin typeface="Arial"/>
              </a:rPr>
              <a:t>OSOBINE: Samostalnost i odgovor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čenik će primjereno svojoj dobi moći samostalno obavljati određene zadaće, te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euzeti odgovornost za svoje ponašan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Prenosivost akademskih vještina u radno okruženj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r-HR" sz="1800" spc="-1" strike="noStrike">
                <a:solidFill>
                  <a:srgbClr val="000000"/>
                </a:solidFill>
                <a:latin typeface="Arial"/>
              </a:rPr>
              <a:t>Cottrell, 2008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50920" y="934920"/>
          <a:ext cx="8893080" cy="5878800"/>
        </p:xfrm>
        <a:graphic>
          <a:graphicData uri="http://schemas.openxmlformats.org/drawingml/2006/table">
            <a:tbl>
              <a:tblPr/>
              <a:tblGrid>
                <a:gridCol w="2627280"/>
                <a:gridCol w="626580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razovne vješt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ionalne vješt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hađanje nasta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ćenje nasta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pni r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meno izlag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sanje ese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ješavanje proble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ažanje i mjere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traživački projek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jera znanja/ ispi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ravljanje vremenom, radne navi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ještine slušanja, selekcija relevantnih informacija, pisanje zapisnika i izvješta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ski rad, pregovaranje,  podjela odgovornosti, vodstvo, tolerancija različitosti, održavanje odnosa, slijeđenje upu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vni nastup, svladavanje treme, argumentiranje, upravljanje vremenom, e-tehnologija, komunikacijski st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iza zadatka, stil pisanja, provjera podataka, pozornost za detalje, argumentiranje, strukturiranje informac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ješavanje poslovnih problema: tumačenje podataka, prezentiranje informacija, analiza opcija, evaluacija isho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ćenje procesa, opažanje međuljudskih odnosa, upravljanje informacijama, utvrđivanje kriterija izved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iranje projekta, prezentiranje rezultata, pisanje izvješta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ravljanje stresom, kontrola kvalitete, poštovanje roko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333399"/>
                </a:solidFill>
                <a:latin typeface="Arial"/>
              </a:rPr>
              <a:t>3. Ljudski resursi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U ško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avnatelj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tručni suradnici (psiholog, pedagog, knjižnič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čitel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Izvan ško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tručnjaci HZZ-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oditelji i ostali članovi obitel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aposleni odrasli u okružen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Arial"/>
              </a:rPr>
              <a:t>4a. Pristupi i aktivnosti na razini škole</a:t>
            </a:r>
            <a:br>
              <a:rPr sz="3200"/>
            </a:br>
            <a:r>
              <a:rPr b="0" lang="hr-HR" sz="3200" spc="-1" strike="noStrike">
                <a:solidFill>
                  <a:srgbClr val="333399"/>
                </a:solidFill>
                <a:latin typeface="Arial"/>
              </a:rPr>
              <a:t> (školska kultura i kli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ticanje profesionalnog razvoja kao strateška zadaća šk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ofesionalno ponašanje svih zaposle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ransparentna pravila ponašanja za sve (etički kodeks ško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uradnička klima među zaposlenic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jelatnici kao modeli radnih ulo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uradnja s roditeljima i lokalnom zajedni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3T07:28:13Z</dcterms:created>
  <dc:creator>Vlasta Vizek Vidovic</dc:creator>
  <dc:description/>
  <dc:language>en-US</dc:language>
  <cp:lastModifiedBy>vlasta vizek</cp:lastModifiedBy>
  <dcterms:modified xsi:type="dcterms:W3CDTF">2016-03-29T08:16:37Z</dcterms:modified>
  <cp:revision>120</cp:revision>
  <dc:subject/>
  <dc:title>Kako osnovna škola može poticati profesionalni razvoj učenika</dc:title>
</cp:coreProperties>
</file>