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7CC-F73A-4D63-8F8B-0579190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F29-C9E6-43A4-B97D-CD8D524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0C4-69EB-466E-83D9-C323EDFF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CB2-5F22-4A8D-A2C9-436873F9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C85-7852-4D4E-BE36-EB47DFCB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400-119F-4B11-8768-6953E08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17A-9D1F-421F-9526-ACF3F0A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0F7-E84C-4F93-81E8-BD602333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B4A-9F2E-419E-B6C6-CEEB604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781-53CA-496C-BE4C-E821660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DD5-1C1E-4DE9-9CE2-C3A81C4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3FC-7654-449A-BA58-48E64A8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545-B89B-49EA-BE9A-6E721D3528C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5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Arial"/>
              </a:rPr>
              <a:t>Spremnost za profesionalni iz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8200" y="568440"/>
            <a:ext cx="83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Agencija za mobilnost i projekte Europske u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eminar: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Podrška škole profesionalnom razvoju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1360" indent="-441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. dr.sc. Vlasta Vizek Vid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vvizek@idi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Zagreb, 5. i 6. travanj 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39640" y="6021360"/>
            <a:ext cx="82803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Primjeri če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laniranje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Razmišljam o nastavku školovanja na fakult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 je predaleko i još me ne zan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razmišljam puno o tome jer ne znam kako ću uspjeti u srednjoj šk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nekad razmišljam o tome, vjerojatno ću upisati fakultet, ali još ne znam ko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sta razmišljam o tome i vjerujem da ću upisati željeni fakult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Informiranje (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ODITELJI kao izvor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Već sam se obratio za sav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igurno ću se obratiti za sav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Vjerojatno ću se obratiti za sav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eću se obratiti za sav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Primjeri če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Odlučivanje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Branka se ne može odlučiti između poziva medicinske sestre i veterinarske tehničarke, što da rad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tvrditi koji je od tih poslova bolje plać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itati  roditelje što oni misle da bi za nju bilo b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misliti voli li više rad s ljudima ili sa životin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ispitati mogućnost zaposlenja za ova zanim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oznavanje svijeta rada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Ako u svom poslu dolaziš u dodir sa strankama važno je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kažeš kako o svom poslu znaš više od nji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hvatiš što žele i pokušaš im pomoć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radiš točno prema uputama kako ti je naređ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činiš sve kako bi tvoja tvrtka ostvarila što veću do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Neki nalazi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(Patton i Lokan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52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or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premnost 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do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općenito stariji učenici pokazuju viši stupanj spremnosti i razlike su veće u prelaznim godinama:  usporedba 14.g. 18.g., 22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ro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a kraju osnovne i srednje škole djevojčice pokazuju viši stupanj spremnosti od dječaka i to u zapadnim zemljama (ne i u Africi i Azij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socio-ekonomski statu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veze nema ili je vrlo sl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vrsta stud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stručni/profesionalni studiji viša spremnost od tzv. liberalnih stu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radno iskustvo u srednjoj ško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ije značajno povez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drednice (predik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d dječaka najjača odrednica je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240" indent="-25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d djevojčica najvažnije odrednice su osjećaj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biteljske povezanosti i unutrašnje mjesto k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Vrste podrške  u razvoju spremnosti za izbor zanim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2416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ognitivno- bihevioralna podršk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oticanju razvoja generičkih vješti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refleksija o vlastitim osob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 osobnih ciljeva i praćenje rea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nošenje životnih odluka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cijalne vještine: samopredstavljanje  i pregova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formacijska podršk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upoznavanju svijetu rada:              vrste i zahtjevi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mocionalna podršk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oticanju  pozitivne slike o seb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življaj samoefikas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nutrašnji osjećaj k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poš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4067280" y="2676600"/>
            <a:ext cx="10094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067280" y="2676600"/>
            <a:ext cx="10094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donald-edwin-super"/>
          <p:cNvPicPr/>
          <p:nvPr/>
        </p:nvPicPr>
        <p:blipFill>
          <a:blip r:embed="rId1"/>
          <a:stretch/>
        </p:blipFill>
        <p:spPr>
          <a:xfrm>
            <a:off x="468360" y="177336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324000" y="494172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ONALD E. SU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Rođ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. 7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0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Honolulu, Hawaii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Umr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.6.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avannah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,Geo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3059280" y="47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Kako je poče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3492360" y="3645000"/>
            <a:ext cx="316872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Work importanc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Važnost rada u životu pojedi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jekt 1979. –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pitnik V – radne vrij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pitnik S – životne ul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8" descr="519CEG7MPHL"/>
          <p:cNvPicPr/>
          <p:nvPr/>
        </p:nvPicPr>
        <p:blipFill>
          <a:blip r:embed="rId2"/>
          <a:stretch/>
        </p:blipFill>
        <p:spPr>
          <a:xfrm>
            <a:off x="6953400" y="3716280"/>
            <a:ext cx="2190600" cy="2662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9"/>
          <p:cNvSpPr/>
          <p:nvPr/>
        </p:nvSpPr>
        <p:spPr>
          <a:xfrm>
            <a:off x="3348000" y="1341360"/>
            <a:ext cx="4824360" cy="167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Career patter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951. g – 1957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ngitudinalna studija skupine srednjoškolaca od početka srednje škole do ulaska u prvo zanimanje ili stud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Superova Teorija profesionalnog razvoja: osnovne postavke i pojm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rofesionalni razvo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je cjeloživotni proces razvoja i realizacije  pojma o sebi  u području rada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Tko sam ja u svijetu rada?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judi se razlikuju prema svojima sposobnostima, osobinama ličnostima, potrebama, vrijednostima, interesima i slici o sebi. Te im osobine omogućavaju da se osposobe za različita zaniman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o zadovoljstvo je određeno stupnjem u kojem smo uspjeli realizirati svoj profesionalni pojam o se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ijekom profesionalnog razvoja donosimo odluke vezane uz izbor zanimanja koje određuju naš karijerni 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obina koja određuje uspješnost u donošenju karijernih odluka je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premnost za profesionalni izbo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career maturity, vocational maturity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329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Superov model profesionalnog razv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Zadaci pojedinih faza profesionalno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052640"/>
          <a:ext cx="8363160" cy="5584680"/>
        </p:xfrm>
        <a:graphic>
          <a:graphicData uri="http://schemas.openxmlformats.org/drawingml/2006/table">
            <a:tbl>
              <a:tblPr/>
              <a:tblGrid>
                <a:gridCol w="2448000"/>
                <a:gridCol w="1008000"/>
                <a:gridCol w="4907160"/>
              </a:tblGrid>
              <a:tr h="64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t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 zadat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aliz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-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znavanje sebe i svijeta rada; formiranje prvih općih profesionalnih cilje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k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-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kupljanje detaljnijih informacija; uže određivanje željenog područja rada i zanim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-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anje i osposobljavanje za određeno zanim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z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-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jecanje radnog iskustva i  učvršćivanje  karij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oli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-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redovanje u karijeri, jačanje kompeten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ema za izlaz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i viš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ranje aktivnosti nakon povlače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964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Spremnost za profesionalni izbo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4372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st  mogućnost izvršavanja razvojnih zadataka vezanih uz odlučivanje  o profesionalnim izborima primjerenih  stupnju profesionalnog razvoja u kojoj se osoba nalazi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Super, 1969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razumijeva mogućnost donošenja odluka o izboru zanimanja koje se temelje na usklađenosti slike o sebi (vrijednosti, interesa, sposobnosti) sa zahtjevima preferiranog zanimanj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Crites, 1975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esionalnim usmjeravanjem i savjetovanjem  pomaže se osobi u razvoju integrirane i realistične slike o sebi i svojoj ulozi u svijetu 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rodni pojmovi: 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spremnost za školu, spremnost za či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Arial"/>
              </a:rPr>
              <a:t>Roditeljska podr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hr1167l"/>
          <p:cNvPicPr/>
          <p:nvPr/>
        </p:nvPicPr>
        <p:blipFill>
          <a:blip r:embed="rId1"/>
          <a:stretch/>
        </p:blipFill>
        <p:spPr>
          <a:xfrm>
            <a:off x="2124000" y="1197000"/>
            <a:ext cx="540072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838880" y="5300640"/>
            <a:ext cx="6380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ravno da možeš postati sistem analitičar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i reci tati što znači biti sistem analitič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124000" y="1197000"/>
            <a:ext cx="3024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Dimenzije spremnosti za profesionalni i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ompson (1979)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 utvrdili 6 dimenzija spremnosti za profesionalni izb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jest o potrebi za planira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ještine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nje o izvorim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ideje o razvoju karij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informacije o svijetu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pecifične informacije o preferiranim zanima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Mjerenje spremnosti za profesionalni i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Career development inventory CDI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Super i sur. 198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pitnik o razvoju karije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hrvatska prilagodba namijenjena 8. razredu osnovne škole  (Vizek Vidović i Vlahović Štetić,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Skala planiranja karijere- motivacij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Skala informiranja - motivacij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Skala odlučivanja - kogniti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Skala poznavanja svijeta rada - kogniti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kala preferiranog zanimanja - kogniti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7:08:00Z</dcterms:created>
  <dc:creator>Vlasta Vizek Vidovic</dc:creator>
  <dc:description/>
  <dc:language>en-US</dc:language>
  <cp:lastModifiedBy>vlasta vizek</cp:lastModifiedBy>
  <dcterms:modified xsi:type="dcterms:W3CDTF">2016-03-29T08:17:35Z</dcterms:modified>
  <cp:revision>80</cp:revision>
  <dc:subject/>
  <dc:title>Što je profesionalna spremnost</dc:title>
</cp:coreProperties>
</file>